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679-54F1-4924-ACA6-245A5425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F22-33AD-43DA-BCE8-092B5B63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DC0-8FD0-48BA-A29A-30BAC0FC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B8E-DB0A-419A-A6A4-896B4479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A5F5-7545-4611-A763-4BD0FDCD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13D7-F176-41A7-AD10-FA2EA65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39A3-D039-4DAB-B2DA-324EA87A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2D1-DB77-4EA6-9E55-4AA7565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BEE-20C0-4342-A24D-D5A5BB81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EE0C-62BE-4E9A-85BE-9F046C0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31E2-94E3-4ABB-9821-358C252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16F-BE25-4822-B208-1C6FB03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37DA-CE6D-4A29-97B2-FF4FCE3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FE29-6063-4F9E-B361-EA9C040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BDD-5646-4D48-A513-7DFF082F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EEB6-CD6D-45D5-993F-FA2B82B4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D047-390A-4B4C-95AB-7FA350D5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10A-45B2-45AF-ADE5-5038C58F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E90-6FFF-40C8-9573-E9D5FFF1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B7D-E3FD-4415-A331-08348DD0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51E-5822-4280-AF3C-01957079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023-1BE5-45F1-B75F-8DCCD6D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7FC-B1BA-4D3A-A73E-18E0AE12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A84-8255-474F-A495-E144F9B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5662-2425-4FCA-BA04-F11CD2895C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13AA-AE21-4A8E-B5D0-63CF293567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Bodoni MT Black"/>
              </a:rPr>
              <a:t>LE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Luke 13:20-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ome of the effects Christianity had on the cultur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Love for one another (Jno 13:34-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5); love fo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nemies – talk of Roman Empi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rucifixion was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lavery became a declining practice (1 Pe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; Philm 16; Gal 3:2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ractice of Infanticide was repr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ames of brutality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assaulted immor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elevated womanhoo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ivorced was curtail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ignity was given to labor (Eph 4:28; 6:6; 2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ss 3: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umerous benevolence &amp; educational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nstitutions resul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essons Learn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hrist never indorsed monasticism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(order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f Monks). Christians are i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e worl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ut not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enguiat Bk BT"/>
              </a:rPr>
              <a:t>of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 the worl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Each faithful follower of Christ is leav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onversely, if not faithful; still leaven, but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ith disastrous results.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“Leaven of the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Pharise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is parable stresses the internal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ctivities of the Kingdom.  Shows ho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orship &amp; fellowship enable us to blen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urselves into the rich culture of Christia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if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s:  The Kingdom is characterized by inner converting power through highly contagio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is text is a parallel to Matthew 13:1 &amp; Mark 4:1, though Mark omits the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ustard See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mphasis of the Mustar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d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xten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’s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essential to understanding the par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– (Gk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to boil;” “fervor;” “zeal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Generally a Biblical figure for impurity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corruption, evil, adulteration and ba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rk 8:15 – Leaven of Pharisees &amp; Her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Cor 5:6; Gal 5:9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 leaven leavens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whole lump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k 12: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Leaven of Pharisees (Hypocris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Ex 13:3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srael purges leaven as symbol of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Egyp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Lev 2:1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was excluded from the meal-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off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innately bad or evil –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symbolically so whe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text so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Lev 2:11 (worship sacrific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Lev 2:12 – Allow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Lev 23:17 – Deman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Matt 13:33 – Leaven does t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dough what the Kingdom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Christ does to the world –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tha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 Simply because a figure may b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symbolic of evil in general Biblical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contexts, the same figure can stand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for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1 Pet 5:8 – Satan seen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roaring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lion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in Rev 5:5 Christ i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on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Juda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Hos 7:11 –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Ephraim…a silly dove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in Matt 10:16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same dove is praised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harmless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Psalm 37:35-36 – Wicked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ke green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tree in native soil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Psalm 1:3 sees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righteous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tree planted by streams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water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ree measures of flour =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pha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n Hebrew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ev. 5:11 – equal to 2 qu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mount prepared at one time for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woma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: Does not represent Holy Spirit or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me expositors make the interpretation foreign to intent of the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y would ma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lways repres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woman who hid the leaven would b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postat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Hiding the leaven would represent evil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likens the leaven to the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contrary to Mustard S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his would make the Kingd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e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i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Until the whole is leavened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dicts the gospe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eached in all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of this parable is the same as Mustard Seed – Small beginnings can have big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show another side of the acti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y which the Kingdom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gives a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incentiv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view of growth of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Little Leave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Gal 5:9 – Spread of Gospel had profound effect on the culture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4:05:51Z</dcterms:created>
  <dc:creator>Jerry Cantrell </dc:creator>
  <dc:description/>
  <dc:language>en-US</dc:language>
  <cp:lastModifiedBy>Jerry Cantrell </cp:lastModifiedBy>
  <dcterms:modified xsi:type="dcterms:W3CDTF">2006-01-24T17:10:47Z</dcterms:modified>
  <cp:revision>9</cp:revision>
  <dc:subject/>
  <dc:title>THE PARABLE OF THE LEAVEN</dc:title>
</cp:coreProperties>
</file>